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A9A-3D56-46F4-B341-1956DCE0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F7E-B140-401B-AA59-FCC310D1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63E6-A76A-4373-B13E-21A185A6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4840-3102-4794-8F66-3839FF96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D13-978A-401F-9B80-8916F41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091-7467-44D5-A91D-8E48FC1E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D6A-F1DA-4AC8-9441-B996FF1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C2D-26EC-469A-85B1-501131B1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FFF3-4CF4-4BA9-B644-66DEF071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BE9-49E4-43C2-9524-8996F1FD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43E-A14A-442E-A9F3-2841C6D3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FAF-F53D-4E1C-B52B-4E2EBF4A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802A-AE9A-429B-A2AA-D49264D1C6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tec.es/rtee/europa/006es/partitura_esp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engo una muñeca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42960" y="999720"/>
            <a:ext cx="4857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engo una muñec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vestida de azu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su camisit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y su canes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saqué a paseo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se me constipó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tengo en la cama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mucho dol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Y esta mañani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me dijo el doct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que le dé jarab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con un tene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Teacher\Local Settings\Temporary Internet Files\Content.IE5\GSX2W8PN\MCj01002420000[1].wmf"/>
          <p:cNvPicPr/>
          <p:nvPr/>
        </p:nvPicPr>
        <p:blipFill>
          <a:blip r:embed="rId1"/>
          <a:stretch/>
        </p:blipFill>
        <p:spPr>
          <a:xfrm>
            <a:off x="7358040" y="642960"/>
            <a:ext cx="1014480" cy="1928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Teacher\Local Settings\Temporary Internet Files\Content.IE5\GSX2W8PN\MCj04134560000[1].wmf"/>
          <p:cNvPicPr/>
          <p:nvPr/>
        </p:nvPicPr>
        <p:blipFill>
          <a:blip r:embed="rId2"/>
          <a:stretch/>
        </p:blipFill>
        <p:spPr>
          <a:xfrm>
            <a:off x="5429160" y="2143080"/>
            <a:ext cx="1452600" cy="1438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Teacher\Local Settings\Temporary Internet Files\Content.IE5\GSX2W8PN\MCj03590070000[1].wmf"/>
          <p:cNvPicPr/>
          <p:nvPr/>
        </p:nvPicPr>
        <p:blipFill>
          <a:blip r:embed="rId3"/>
          <a:stretch/>
        </p:blipFill>
        <p:spPr>
          <a:xfrm>
            <a:off x="6286680" y="3500280"/>
            <a:ext cx="135720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cuments and Settings\Teacher\Local Settings\Temporary Internet Files\Content.IE5\9F00BVRR\MCj03053870000[1].wmf"/>
          <p:cNvPicPr/>
          <p:nvPr/>
        </p:nvPicPr>
        <p:blipFill>
          <a:blip r:embed="rId4"/>
          <a:stretch/>
        </p:blipFill>
        <p:spPr>
          <a:xfrm rot="6606600">
            <a:off x="4788360" y="4539240"/>
            <a:ext cx="1503360" cy="181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Documents and Settings\Teacher\Local Settings\Temporary Internet Files\Content.IE5\0HK6QPZ8\MPj03372500000[1].jpg"/>
          <p:cNvPicPr/>
          <p:nvPr/>
        </p:nvPicPr>
        <p:blipFill>
          <a:blip r:embed="rId5"/>
          <a:stretch/>
        </p:blipFill>
        <p:spPr>
          <a:xfrm>
            <a:off x="6500880" y="4786200"/>
            <a:ext cx="248292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Dos y dos son cuatro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cuatro y dos son sei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seis y dos son ocho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dieciséi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veinticuatro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y ocho treinta y 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Animas bendita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alibri"/>
              </a:rPr>
              <a:t>me arrodillo yo.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xtec.es/rtee/europa/006es/partitura_esp.ht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have a d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ressed in b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her little shi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its frilly co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took her out for a wa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she caught a co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’ve got her in b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a lot of 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o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ctor told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o give her cough medic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ith a f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and 2 are f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4 and 2 are s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6 and 2 are 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, sixt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, twenty f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d 8 , thirty 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t lively, blessed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 get on my knees to pr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58:58Z</dcterms:created>
  <dc:creator>Teacher</dc:creator>
  <dc:description/>
  <dc:language>en-US</dc:language>
  <cp:lastModifiedBy>Teacher</cp:lastModifiedBy>
  <dcterms:modified xsi:type="dcterms:W3CDTF">2010-02-19T22:13:35Z</dcterms:modified>
  <cp:revision>8</cp:revision>
  <dc:subject/>
  <dc:title>Tengo una muñeca </dc:title>
</cp:coreProperties>
</file>